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17D-4418-432D-B519-FBC8D1B9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1B1-595E-4E04-A538-FD1F9DD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8FE-BEAD-4F39-9E98-32C7326E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729-719F-4966-BFE2-604F3B76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43A-2A55-4B95-89D4-43B4E06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24C-AC74-4DBF-A771-38796C4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ECF-1CFC-480F-8164-C4A7B687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296-6AA2-47DC-A710-A242EBA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AC3-F516-485E-A088-0D08009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5B6-C423-4DC6-84A9-28B1390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065-49A2-4661-BE37-202F3E1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9E7-B801-48CF-A8A9-03DD093A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A64-4330-43AB-890A-B348D261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0" y="68580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13997" r="0" b="6704"/>
          <a:stretch/>
        </p:blipFill>
        <p:spPr>
          <a:xfrm>
            <a:off x="0" y="3124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0" y="38098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029200"/>
            <a:ext cx="9144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609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048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4008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68580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97180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P data.  Known start times,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22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learning rate .0001 (needed it low to assure increasing data likelih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P(Y|S) ~ 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7391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produce, use try-PSSP-7-13-04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7150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6324480"/>
            <a:ext cx="1676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895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5715000"/>
            <a:ext cx="152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3581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using try-PSSP-7-13-04b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419720"/>
            <a:ext cx="213372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P data.  Known start times, 3 processes   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20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rate .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P(Y|S) ~ 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4:47:10Z</dcterms:created>
  <dc:creator>Tom M. Mitchell</dc:creator>
  <dc:description/>
  <dc:language>en-US</dc:language>
  <cp:lastModifiedBy>School of Computer Science</cp:lastModifiedBy>
  <dcterms:modified xsi:type="dcterms:W3CDTF">2004-07-15T20:08:13Z</dcterms:modified>
  <cp:revision>22</cp:revision>
  <dc:subject/>
  <dc:title>Slide 1</dc:title>
</cp:coreProperties>
</file>